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184BD-4D55-4BEC-9C38-5DF901DE78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(2x slap, slap, slap, clap, slap)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oin’ the FACT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Now that’s a CLASS AC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Knowing the FACT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hat’s Where It’s At!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(2x slap, slap, slap, clap, slap)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Keep it together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tay in the GROOV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eady, now Steady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You’re on the MOVE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x slap, slap, slap, clap, sla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in’ the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that’s a CLASS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ing the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’s Where It’s A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x slap, slap, slap, clap, sla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it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y in the GRO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y, now St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’re on the MOV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0 x 1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Please don’t offend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1 x 11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uch more Fun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PLIT then ADD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HAM! You’re Don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1 x 11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1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x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don’t offe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 x 1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more F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LIT then AD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M! You’re D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 x 1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 x 12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Give me some mor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 x 12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44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oll them 12’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,     24,     36,     48,     6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               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2,    84,     96,    108,  12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1x12     just split  then add 132  that’s all you do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 x 12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44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44…There is NO MORE!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x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me some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x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 them 12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,     24,     36,     48,     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2,    84,     96,    108,  1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x12     just split  then add 132  that’s all you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x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4…There is NO MO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HA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BHA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CORED!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Oh, Yea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R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h, Yea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 x 1 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hat’s no Fun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 x 2 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Too Easy to Do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3 x 3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Anyone can See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, 6, 9 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very Time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x 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’s no Fun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x 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oo Easy to Do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3 x 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one can Se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 6, 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Ti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 x 4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ay No Mor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aus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ouble Double that’s no Troubl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irst Double is 8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Next Double 16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 x 4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oll them 4s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,     8,   12,   16,  2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4,   28,  32,   36,  4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x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No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 Double that’s no Trou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Double is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Doub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x 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 them 4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,     8,   12,   16, 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,   28,  32,   36, 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 x 5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ming Aliv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 x 5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eady, Set, Stay in the Race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, 10, 15, 20, 25, 30, 35, 40, 45, 5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5, 60, 65, 70, 75, 80, 85, 90, 95, 100 oh Yea!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o it Again, Make it Ters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eady, Set, Reverse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x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ing Al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x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y, Set, Stay in the Rac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, 10, 15, 20, 25, 30, 35, 40, 45, 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, 60, 65, 70, 75, 80, 85, 90, 95, 100 oh Ye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it Again, Make it T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y, Set, Revers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cc00"/>
                </a:solidFill>
                <a:latin typeface="Arial"/>
              </a:rPr>
              <a:t>WHAM!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cc00"/>
                </a:solidFill>
                <a:latin typeface="Arial"/>
              </a:rPr>
              <a:t>WE’RE GOOD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’RE G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 x 6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asy to fix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 x 6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olling our Sixe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, 12, 18, 24, 30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6, 42, 48, 54, 6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x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y to f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x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ing our Si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, 12, 18, 24, 3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, 42, 48, 54, 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 x 7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Keep in Tim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 x 7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9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et’s Roll Them Fine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, 14, 21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8, 35, 42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9, 56, 63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rap it up…7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x 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i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x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Roll Them Fin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, 14, 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, 35, 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9, 56, 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 it up…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8 x8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ell on the Floor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8 x 8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4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oll it Now, Roll some Mor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8,  16, 24, 32, 4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                 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8, 56, 64, 72, 8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x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ll on the Fl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x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 it Now, Roll some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,  16, 24, 32,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8, 56, 64, 72, 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9 x 9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his one’s Fun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9 x 9 i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81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ollin, Rollin, get the water Boilin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90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81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2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3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4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5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6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8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09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x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one’s F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x 9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in, Rollin, get the water Boili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D12B-5903-4A33-8D8A-2DFC763CF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5ACE-F848-45A6-95D8-57C576D9C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9E94-21A7-4650-8B38-EF1C84BFF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AECC-3B30-41E5-9DE1-9CF69B029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919BB-449D-41E2-8E81-AB7F2577A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50C91-18EE-43FD-8C72-4A6A0C626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700C8-A9E6-4852-B36E-034C94C9D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2BC6E-7B9B-4BDC-8ABA-ED7F767F8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E522D-FF2A-4C74-8050-3AA08D66C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509A8-7E9E-4995-ADF1-06949E755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B9F34-D777-41D4-84BD-078EED6D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C4C0-077E-41CE-8960-5F441D72B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3EA7B-FFA7-422D-9175-BAD0AD4B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0F2C9-CBA2-4500-BA86-BC245F1A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85D47-7BB0-4A0B-A19B-6D4221526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FD04D-F90C-404B-876E-5F57F364E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C6F11-9745-4264-ACB3-A3B9AC1A3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26C4-50A2-4834-8DC5-777FBAD31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A4B5-2534-49F5-BC96-80A0FA5BE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6C24-C109-4ECD-91BD-612D2F2B5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B3DA-AF6A-474B-A3A6-1F084102A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3565-D3BD-4466-9D0B-0B36051E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C4F7-6D50-46F7-B5AE-D7A62353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0383-7CF3-4E4F-95E3-D3124DD1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C38AD-5406-4E69-966F-D7786A68F399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BDC76-FBF5-4AD6-B09E-ADF69404736E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(2x slap, slap, slap, clap, slap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Arial Black"/>
              </a:rPr>
              <a:t>Doin’ the FACT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Arial Black"/>
              </a:rPr>
              <a:t>Now that’s a CLASS AC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Arial Black"/>
              </a:rPr>
              <a:t>Knowing the FACT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Arial Black"/>
              </a:rPr>
              <a:t>That’s Where It’s At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(2x slap, slap, slap, clap, slap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 Black"/>
              </a:rPr>
              <a:t>Keep it togeth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 Black"/>
              </a:rPr>
              <a:t>Stay in the GROOV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 Black"/>
              </a:rPr>
              <a:t>Ready, now Stead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 Black"/>
              </a:rPr>
              <a:t>You’re on the MOVE…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 Black"/>
              </a:rPr>
              <a:t>10 x 10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 Black"/>
              </a:rPr>
              <a:t>Please don’t offend</a:t>
            </a:r>
            <a:r>
              <a:rPr b="0" lang="en-US" sz="4400" spc="-1" strike="noStrike">
                <a:solidFill>
                  <a:srgbClr val="ff3399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Arial Black"/>
              </a:rPr>
              <a:t>11 x 11 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 Black"/>
              </a:rPr>
              <a:t>Much more Fu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Arial Black"/>
              </a:rPr>
              <a:t>SPLIT then ADD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Arial Black"/>
              </a:rPr>
              <a:t>WHAM! You’re Done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 Black"/>
              </a:rPr>
              <a:t>11 x 11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 Black"/>
              </a:rPr>
              <a:t>121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12 x 12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Give me some mor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12 x 12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144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Roll them 12’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12,     24,     36,     48,     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60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                 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72,    84,     96,    108,  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120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11x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12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    just split  then add 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1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3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2 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at’s all you d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12 x 12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144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144…There is NO MORE!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99"/>
                </a:solidFill>
                <a:latin typeface="Arial Black"/>
              </a:rPr>
              <a:t>WHAM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ff66"/>
                </a:solidFill>
                <a:latin typeface="Arial Black"/>
              </a:rPr>
              <a:t>BHAM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ff"/>
                </a:solidFill>
                <a:latin typeface="Arial Black"/>
              </a:rPr>
              <a:t>WE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0000"/>
                </a:solidFill>
                <a:latin typeface="Arial Black"/>
              </a:rPr>
              <a:t>SCORED!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00"/>
                </a:solidFill>
                <a:latin typeface="Arial Black"/>
              </a:rPr>
              <a:t>Oh, Yea…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66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1 x 1 </a:t>
            </a:r>
            <a:br>
              <a:rPr sz="4000"/>
            </a:b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That’s no Fun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2 x 2 </a:t>
            </a:r>
            <a:br>
              <a:rPr sz="4000"/>
            </a:b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 Too Easy to Do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 3 x 3</a:t>
            </a:r>
            <a:br>
              <a:rPr sz="4000"/>
            </a:b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Anyone can See</a:t>
            </a:r>
            <a:br>
              <a:rPr sz="4000"/>
            </a:b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3, 6, 9 </a:t>
            </a:r>
            <a:br>
              <a:rPr sz="4000"/>
            </a:b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Every Time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4 x 4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ay No Mor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aus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ouble Double that’s no Troubl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rst Double is 8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Next Double 16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4 x 4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16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oll them 4s…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4,     8,   12,   16,  </a:t>
            </a:r>
            <a:r>
              <a:rPr b="1" lang="en-US" sz="4400" spc="-1" strike="noStrike">
                <a:solidFill>
                  <a:srgbClr val="ffcc00"/>
                </a:solidFill>
                <a:latin typeface="Arial Black"/>
              </a:rPr>
              <a:t>2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              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24,   28,  32,   36,  </a:t>
            </a:r>
            <a:r>
              <a:rPr b="1" lang="en-US" sz="4400" spc="-1" strike="noStrike">
                <a:solidFill>
                  <a:srgbClr val="ffcc00"/>
                </a:solidFill>
                <a:latin typeface="Arial Black"/>
              </a:rPr>
              <a:t>4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66"/>
                </a:solidFill>
                <a:latin typeface="Arial Black"/>
              </a:rPr>
              <a:t>5 x 5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66"/>
                </a:solidFill>
                <a:latin typeface="Arial Black"/>
              </a:rPr>
              <a:t>Coming Alive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66"/>
                </a:solidFill>
                <a:latin typeface="Arial Black"/>
              </a:rPr>
              <a:t>5 x 5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ff66"/>
                </a:solidFill>
                <a:latin typeface="Arial Black"/>
              </a:rPr>
              <a:t>25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Arial Black"/>
              </a:rPr>
              <a:t>Ready, Set, Stay in the Race…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Arial Black"/>
              </a:rPr>
              <a:t>5, 10, 15, 20, </a:t>
            </a:r>
            <a:r>
              <a:rPr b="1" lang="en-US" sz="5400" spc="-1" strike="noStrike">
                <a:solidFill>
                  <a:srgbClr val="66ff66"/>
                </a:solidFill>
                <a:latin typeface="Arial Black"/>
              </a:rPr>
              <a:t>25</a:t>
            </a:r>
            <a:r>
              <a:rPr b="0" lang="en-US" sz="2800" spc="-1" strike="noStrike">
                <a:solidFill>
                  <a:srgbClr val="66ff66"/>
                </a:solidFill>
                <a:latin typeface="Arial Black"/>
              </a:rPr>
              <a:t>, 30, 35, 40, 45, </a:t>
            </a:r>
            <a:r>
              <a:rPr b="1" lang="en-US" sz="5400" spc="-1" strike="noStrike">
                <a:solidFill>
                  <a:srgbClr val="66ff66"/>
                </a:solidFill>
                <a:latin typeface="Arial Black"/>
              </a:rPr>
              <a:t>50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Arial Black"/>
              </a:rPr>
              <a:t>55, 60, 65, 70, </a:t>
            </a:r>
            <a:r>
              <a:rPr b="1" lang="en-US" sz="5400" spc="-1" strike="noStrike">
                <a:solidFill>
                  <a:srgbClr val="66ff66"/>
                </a:solidFill>
                <a:latin typeface="Arial Black"/>
              </a:rPr>
              <a:t>75</a:t>
            </a:r>
            <a:r>
              <a:rPr b="0" lang="en-US" sz="2800" spc="-1" strike="noStrike">
                <a:solidFill>
                  <a:srgbClr val="66ff66"/>
                </a:solidFill>
                <a:latin typeface="Arial Black"/>
              </a:rPr>
              <a:t>, 80, 85, 90, 95, </a:t>
            </a:r>
            <a:r>
              <a:rPr b="1" lang="en-US" sz="5400" spc="-1" strike="noStrike">
                <a:solidFill>
                  <a:srgbClr val="66ff66"/>
                </a:solidFill>
                <a:latin typeface="Arial Black"/>
              </a:rPr>
              <a:t>100 </a:t>
            </a:r>
            <a:r>
              <a:rPr b="1" lang="en-US" sz="2000" spc="-1" strike="noStrike">
                <a:solidFill>
                  <a:srgbClr val="66ff66"/>
                </a:solidFill>
                <a:latin typeface="Arial Black"/>
              </a:rPr>
              <a:t>oh Yea!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66"/>
                </a:solidFill>
                <a:latin typeface="Arial Black"/>
              </a:rPr>
              <a:t>Do it Again, Make it Ters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66"/>
                </a:solidFill>
                <a:latin typeface="Arial Black"/>
              </a:rPr>
              <a:t>Ready, Set, Reverse…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ccff"/>
                </a:solidFill>
                <a:latin typeface="Arial Black"/>
              </a:rPr>
              <a:t>WHAM!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Arial Black"/>
              </a:rPr>
              <a:t>WE’RE GOO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6 x 6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Easy to fix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6 x 6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Arial Black"/>
              </a:rPr>
              <a:t>36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Rolling our Sixes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6, 12, 18, 24, </a:t>
            </a:r>
            <a:r>
              <a:rPr b="1" lang="en-US" sz="4000" spc="-1" strike="noStrike">
                <a:solidFill>
                  <a:srgbClr val="ff3399"/>
                </a:solidFill>
                <a:latin typeface="Arial Black"/>
              </a:rPr>
              <a:t>30</a:t>
            </a: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              </a:t>
            </a: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36, 42, 48, 54, </a:t>
            </a:r>
            <a:r>
              <a:rPr b="1" lang="en-US" sz="4000" spc="-1" strike="noStrike">
                <a:solidFill>
                  <a:srgbClr val="ff3399"/>
                </a:solidFill>
                <a:latin typeface="Arial Black"/>
              </a:rPr>
              <a:t>6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7 x 7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Keep in Time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7 x 7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49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Let’s Roll Them Fine…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7, 14, </a:t>
            </a:r>
            <a:r>
              <a:rPr b="1" lang="en-US" sz="4800" spc="-1" strike="noStrike">
                <a:solidFill>
                  <a:srgbClr val="ffcc00"/>
                </a:solidFill>
                <a:latin typeface="Arial Black"/>
              </a:rPr>
              <a:t>21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28, 35,</a:t>
            </a: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4800" spc="-1" strike="noStrike">
                <a:solidFill>
                  <a:srgbClr val="ffcc00"/>
                </a:solidFill>
                <a:latin typeface="Arial Black"/>
              </a:rPr>
              <a:t>42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49, 56, </a:t>
            </a:r>
            <a:r>
              <a:rPr b="1" lang="en-US" sz="4800" spc="-1" strike="noStrike">
                <a:solidFill>
                  <a:srgbClr val="ffcc00"/>
                </a:solidFill>
                <a:latin typeface="Arial Black"/>
              </a:rPr>
              <a:t>63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 Black"/>
              </a:rPr>
              <a:t>Wrap it up…70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66"/>
                </a:solidFill>
                <a:latin typeface="Arial Black"/>
              </a:rPr>
              <a:t>8 x8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66"/>
                </a:solidFill>
                <a:latin typeface="Arial Black"/>
              </a:rPr>
              <a:t>Fell on the Floor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66"/>
                </a:solidFill>
                <a:latin typeface="Arial Black"/>
              </a:rPr>
              <a:t>8 x 8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66"/>
                </a:solidFill>
                <a:latin typeface="Arial Black"/>
              </a:rPr>
              <a:t>64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66"/>
                </a:solidFill>
                <a:latin typeface="Arial Black"/>
              </a:rPr>
              <a:t>Roll it Now, Roll some Mor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 Black"/>
              </a:rPr>
              <a:t>8,  16, 24, 32, </a:t>
            </a:r>
            <a:r>
              <a:rPr b="1" lang="en-US" sz="4000" spc="-1" strike="noStrike">
                <a:solidFill>
                  <a:srgbClr val="66ff66"/>
                </a:solidFill>
                <a:latin typeface="Arial Black"/>
              </a:rPr>
              <a:t>4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 Black"/>
              </a:rPr>
              <a:t>                     </a:t>
            </a:r>
            <a:r>
              <a:rPr b="0" lang="en-US" sz="3200" spc="-1" strike="noStrike">
                <a:solidFill>
                  <a:srgbClr val="66ff66"/>
                </a:solidFill>
                <a:latin typeface="Arial Black"/>
              </a:rPr>
              <a:t>48, 56, 64, 72, </a:t>
            </a:r>
            <a:r>
              <a:rPr b="1" lang="en-US" sz="4000" spc="-1" strike="noStrike">
                <a:solidFill>
                  <a:srgbClr val="66ff66"/>
                </a:solidFill>
                <a:latin typeface="Arial Black"/>
              </a:rPr>
              <a:t>8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9 x 9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This one’s Fu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9 x 9 i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Arial Black"/>
              </a:rPr>
              <a:t>81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Rollin, Rollin, get the water </a:t>
            </a:r>
            <a:r>
              <a:rPr b="1" i="1" lang="en-US" sz="2400" spc="-1" strike="noStrike">
                <a:solidFill>
                  <a:srgbClr val="00ccff"/>
                </a:solidFill>
                <a:latin typeface="Arial Black"/>
              </a:rPr>
              <a:t>Boilin…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Arial Black"/>
              </a:rPr>
              <a:t>90</a:t>
            </a:r>
            <a:r>
              <a:rPr b="0" lang="en-US" sz="3200" spc="-1" strike="noStrike">
                <a:solidFill>
                  <a:srgbClr val="00ccff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81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72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63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54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Arial Black"/>
              </a:rPr>
              <a:t>45</a:t>
            </a: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36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27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18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09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2T15:42:49Z</dcterms:created>
  <dc:creator>dtaylor</dc:creator>
  <dc:description/>
  <dc:language>en-US</dc:language>
  <cp:lastModifiedBy>RomaK</cp:lastModifiedBy>
  <dcterms:modified xsi:type="dcterms:W3CDTF">2015-09-04T07:42:59Z</dcterms:modified>
  <cp:revision>15</cp:revision>
  <dc:subject/>
  <dc:title>math fact review rap</dc:title>
</cp:coreProperties>
</file>